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DF6-5434-4B53-92BE-582D7F8E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E94-CE0E-4BB5-9C4D-20C7A31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23B-5799-4A50-BEDA-B6C54452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E0D-B770-4B5B-B252-FBF8A8E2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E1F-6D86-4FD1-A3D4-B66847F5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793-F91A-45DD-B24F-EA71EA14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040-73BB-4CD0-9823-5D07D33F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2F9-D2B1-48F6-853B-500EF49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DFE-59FF-44E5-B942-5738B4A6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284-15B4-43DE-A6A1-4E48DAA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556-058F-4543-8D6C-523B061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B32-DB32-46AA-B4C2-1CBFD51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674A-4F26-4E3F-B83F-C253A27C1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725" t="11114" r="7845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185" t="11788" r="8332" b="57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4814" t="13471" r="10185" b="74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888" t="16838" r="12038" b="10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1112" t="11788" r="8332" b="5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2038" t="11788" r="8332" b="57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3888" t="16838" r="12038" b="10769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2038" t="11788" r="9258" b="5719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1112" t="13471" r="8335" b="57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0185" t="11788" r="8332" b="5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ore</cp:lastModifiedBy>
  <dcterms:modified xsi:type="dcterms:W3CDTF">2009-01-22T23:49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